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016D-36A0-41AB-9F79-834E1A44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8894-2A96-43D3-8F54-F81803CD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6AA7-4F28-49A7-A455-5D786580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B31C-3884-4372-91E8-A3721432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7658-37C1-489D-BB46-B21198B26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3F1A-2B70-41C7-9EC1-ECF4101D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2414-65C4-43D5-AEA0-B3EEF1C2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6908-8261-43EE-8FE9-99214F6E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B120-8520-4FFF-8CCD-0D1EF27A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C866-E0EB-4C9F-A145-E5C91E9C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D20D-FBFE-4F87-A11D-20FD123C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4960-D1FD-4EC0-BE18-A4E9535F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17E4-E498-4E06-90B0-6104C4F7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F8D7-6B50-4028-AA8A-E9D81CA3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2A59-292D-4846-A6E3-6D507680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3782-AA56-4D1A-97DD-73F94C61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5429-0BA8-469A-9C00-3535C75A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41EB3-D1B3-4F99-B656-28192460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ABA5D-FCB9-4775-AD1B-396B74A4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2EC39-01E0-400F-ABF0-901E3A7F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8C532-91EA-4505-A8AD-ECA805B1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E5607-9E29-41A1-BD3B-951C8B2D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ED34-B839-45AE-8A9E-0A66A0A3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9AD2E-7C59-436E-9E67-BC29ADCD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023FB-14DC-4967-883F-3437C2CB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E2751-8C85-4EE2-8581-F34C11BE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6B619-90E9-4B58-8031-DC698D2B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5A89C-FEEB-4505-BA42-A24C1D02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EF79A-9235-4A39-B07B-18A93099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7A743-343F-400E-BA65-EFC7FD6B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815B9-B671-4647-98C4-A64F9C4B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96523-BB75-4181-8DF8-AFD56BC1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1A107-3AF9-4180-AB50-1DE100EA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54C8-17E0-4C0D-AB83-C82E29CE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B6474-E4B8-4741-BCC6-DFABF44A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C0EEA-D2D3-4FC6-B26E-58CAAC73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583AE-93F8-404E-8256-F5A36FA9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3A13E-D52E-4EE6-AC53-4BB04657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5B61B-A714-4666-A897-7714504C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F565A-5F81-415E-A68B-8756C95B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31C42-F4EE-4B8F-AEA8-6B663EA2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E81F8-FA9F-4D2F-8379-DC6C9641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8DA42-4218-4101-9322-63DF6DEC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CAFEF-08F0-4177-BFCB-EDAD863D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21D3-DD6B-407B-8067-8E5960D6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659D1-8189-44AC-AC5E-401287F0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72605-98D5-42D8-82EF-8FFACB7A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0B05F-968E-46E4-9E35-9AE68F87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76FB4-1BA1-4321-B610-A5822DE0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C59E5-0769-46BD-B706-BC9D591C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39EB0-05C6-42D0-B923-3939194D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6F30B-90CB-41F8-8DE6-721B8DD4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EA5D3-0C9A-4088-AD08-81021C93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E5CDF-7C05-4C8B-9D4E-8F1CB25A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2F6CD-306C-4BCB-8C90-D5E01510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3468-83E7-4EB5-B794-809AF7EB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D8343-43A9-4A82-A13D-E79E7959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6E37-A3B2-42DF-8155-FD8EAFE8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6A0E-DDF5-4750-9D74-8A817510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4A8B-10BF-4CC4-B444-8C9D167E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428F-0000-4727-A059-D8F03D38E2C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9BA7-5C45-4832-A7F9-7FE80D7F89AD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9A44-DFA7-4039-9BD0-32EFAF762A5C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A502-A9FD-4AB2-9D08-90E69282055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4DF1-1B07-4286-9069-0DF66A96519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8188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60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1" lang="sr-CS" sz="6000" spc="-1" strike="noStrike">
                <a:solidFill>
                  <a:srgbClr val="ffff00"/>
                </a:solidFill>
                <a:latin typeface="Arial"/>
                <a:ea typeface="Arial"/>
              </a:rPr>
              <a:t>НУКЛЕИНСКЕ КИСЕЛИНЕ:</a:t>
            </a:r>
            <a:br>
              <a:rPr sz="6000"/>
            </a:br>
            <a:r>
              <a:rPr b="1" lang="sr-CS" sz="6000" spc="-1" strike="noStrike">
                <a:solidFill>
                  <a:srgbClr val="ffff00"/>
                </a:solidFill>
                <a:latin typeface="Arial"/>
                <a:ea typeface="Arial"/>
              </a:rPr>
              <a:t>ДНК и РНК</a:t>
            </a:r>
            <a:endParaRPr b="0" lang="en-US" sz="6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Три типа</a:t>
            </a: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секвенци ДНК</a:t>
            </a: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Непоновљи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еквенц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сингл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ју једну копију-функционалне, одговорне за синтезу полипептид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Умерено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поновљ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иве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10-10.000 х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еквенце - функционалне, одговорне су за синтезу тРНК и рРНК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иРНК за синтезу хисто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Високо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новљи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еквенце –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к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x поновљене - нису  функционалне, пр. сателитне ДНК у региону центромера хромозо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Денатурација и ренатурациј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гревањем медијума на коме се налази молекул ДНК кидају с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е и расплићу се ланц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денатурац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степеним хлађењем медијума поново се успостављај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е и хеликоидна структура –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ренатурац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Хибридизација ДНК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тода за процену генетичке сличности међу удаљеним врст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или у методама молекуларне генетик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Рибонуклинска киселина - Р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 разлику од ДН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РНК ј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једноланчан</a:t>
            </a: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лекул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рибонуклеотиду се налази пентозни шећер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риб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место тимина заступљена је п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идинска база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ураци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4" descr="dna_versus_rna_reversed"/>
          <p:cNvPicPr/>
          <p:nvPr/>
        </p:nvPicPr>
        <p:blipFill>
          <a:blip r:embed="rId1"/>
          <a:stretch/>
        </p:blipFill>
        <p:spPr>
          <a:xfrm>
            <a:off x="4343400" y="1371600"/>
            <a:ext cx="455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4617b"/>
                </a:solidFill>
                <a:latin typeface="Arial"/>
              </a:rPr>
              <a:t>Врсте РН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формациона РНК - иРН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mRN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ранспрортна РНК - тРН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ибозомална РНК - рН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Информациона РНК (</a:t>
            </a:r>
            <a:r>
              <a:rPr b="1" lang="sr-CS" sz="4400" spc="-1" strike="noStrike">
                <a:solidFill>
                  <a:srgbClr val="04617b"/>
                </a:solidFill>
                <a:latin typeface="Calibri"/>
              </a:rPr>
              <a:t>иРНК</a:t>
            </a: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088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Примарни је продукт одређене секвенце Д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Има улогу да пренесе информацију из једра до рибозома у цитоплазми за синтезу протеи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Различите је дужине, а њена дужина зависи од величине гена са кога се препису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Траје док не обави своју функциј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Транспортна РНК (тРНК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2285640"/>
            <a:ext cx="541008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марни је продукт секвенце Д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еличине је 70-90 нуклеотид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 улогу да веже за себе и пренесе 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ел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до рибозо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простору формира структуру која подсећа на детелину с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лис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2" name="Picture 3" descr="tRNA"/>
          <p:cNvPicPr/>
          <p:nvPr/>
        </p:nvPicPr>
        <p:blipFill>
          <a:blip r:embed="rId1"/>
          <a:stretch/>
        </p:blipFill>
        <p:spPr>
          <a:xfrm>
            <a:off x="5111640" y="1981080"/>
            <a:ext cx="380700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Рибозомална РНК (рРНК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примарни транскрипт одређене секвенце Д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ма улогу у повезивању иРНК за рибоз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ак 70% РНК у ћелији је р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5" name="Picture 3" descr="I11-21-rRNA2"/>
          <p:cNvPicPr/>
          <p:nvPr/>
        </p:nvPicPr>
        <p:blipFill>
          <a:blip r:embed="rId1"/>
          <a:stretch/>
        </p:blipFill>
        <p:spPr>
          <a:xfrm>
            <a:off x="1066680" y="3809880"/>
            <a:ext cx="739152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onstantia"/>
              </a:rPr>
              <a:t>Фракције РНК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n РНК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- налазе се у сплајсозомима, имају улогу у обради примарне и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no РНК -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имају улогу у модификацији р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ikro РНК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дужине 22 нуклеотида, везују се за иРНК и регулишу синтезу протеи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antisens РНК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искључује кодирајуће сегменте у  ДНК (sens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езоксирибонуклеинска киселина - Д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екул ДНК испуњава три основна услов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си информацију за синтезу протеина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 способност повременог мењања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 способност ауторепродукције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 је зато 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начен као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наследна супстан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зузетно код неких вируса  то може да буде РН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ви предл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екундар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уктуре молекула ДНК дали с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тс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к 1953. годин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52280" y="1447920"/>
            <a:ext cx="41911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ем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тсон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ику молекул ДНК се састоји од два полинуклеотидна ланца комплементарне грађе који су спирално обавијени један око другог и међусобно су повезан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и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а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3" descr="DNA"/>
          <p:cNvPicPr/>
          <p:nvPr/>
        </p:nvPicPr>
        <p:blipFill>
          <a:blip r:embed="rId1"/>
          <a:stretch/>
        </p:blipFill>
        <p:spPr>
          <a:xfrm>
            <a:off x="4724280" y="685800"/>
            <a:ext cx="27054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4617b"/>
                </a:solidFill>
                <a:latin typeface="Arial"/>
              </a:rPr>
              <a:t>Основна јединица грађе -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нуклеотид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334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уклеотид се састој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ентозног шећера 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дезоксирибоз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осфатне групе </a:t>
            </a:r>
            <a:r>
              <a:rPr b="1" lang="sr-CS" sz="2200" spc="-1" strike="noStrike">
                <a:solidFill>
                  <a:srgbClr val="0000ff"/>
                </a:solidFill>
                <a:latin typeface="Arial"/>
                <a:ea typeface="Arial"/>
              </a:rPr>
              <a:t>Р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О</a:t>
            </a:r>
            <a:r>
              <a:rPr b="1" lang="sr-Latn-CS" sz="22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ff"/>
                </a:solidFill>
                <a:latin typeface="Arial"/>
                <a:ea typeface="Arial"/>
              </a:rPr>
              <a:t>азотне б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аз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уринске или пиримидинск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У оквиру једног ланца, међусобно су повезани </a:t>
            </a:r>
            <a:r>
              <a:rPr b="1" lang="sr-RS" sz="2200" spc="-1" strike="noStrike">
                <a:solidFill>
                  <a:srgbClr val="0000ff"/>
                </a:solidFill>
                <a:latin typeface="Arial"/>
                <a:ea typeface="Arial"/>
              </a:rPr>
              <a:t>фосфодиестерским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везам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У зависности од типа базе разликујемо 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4 типа нуклеотид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5" descr="nuclei1"/>
          <p:cNvPicPr/>
          <p:nvPr/>
        </p:nvPicPr>
        <p:blipFill>
          <a:blip r:embed="rId1"/>
          <a:stretch/>
        </p:blipFill>
        <p:spPr>
          <a:xfrm>
            <a:off x="6248520" y="1143000"/>
            <a:ext cx="2203200" cy="2266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nucleotides"/>
          <p:cNvPicPr/>
          <p:nvPr/>
        </p:nvPicPr>
        <p:blipFill>
          <a:blip r:embed="rId2"/>
          <a:stretch/>
        </p:blipFill>
        <p:spPr>
          <a:xfrm>
            <a:off x="5715000" y="3730680"/>
            <a:ext cx="32767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4617b"/>
                </a:solidFill>
                <a:latin typeface="Arial"/>
              </a:rPr>
              <a:t>Спољашњи скелет ДНК</a:t>
            </a: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 </a:t>
            </a:r>
            <a:br>
              <a:rPr sz="3400"/>
            </a:b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чине дезоксирибозе и</a:t>
            </a:r>
            <a:r>
              <a:rPr b="0" lang="sr-Latn-CS" sz="3400" spc="-1" strike="noStrike">
                <a:solidFill>
                  <a:srgbClr val="04617b"/>
                </a:solidFill>
                <a:latin typeface="Arial"/>
              </a:rPr>
              <a:t> PO</a:t>
            </a:r>
            <a:r>
              <a:rPr b="0" lang="sr-Latn-CS" sz="3400" spc="-1" strike="noStrike" baseline="-25000">
                <a:solidFill>
                  <a:srgbClr val="04617b"/>
                </a:solidFill>
                <a:latin typeface="Arial"/>
              </a:rPr>
              <a:t>4</a:t>
            </a:r>
            <a:r>
              <a:rPr b="0" lang="sr-Latn-CS" sz="3400" spc="-1" strike="noStrike" baseline="30000">
                <a:solidFill>
                  <a:srgbClr val="04617b"/>
                </a:solidFill>
                <a:latin typeface="Arial"/>
              </a:rPr>
              <a:t> </a:t>
            </a: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групе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Picture 3" descr="img030"/>
          <p:cNvPicPr/>
          <p:nvPr/>
        </p:nvPicPr>
        <p:blipFill>
          <a:blip r:embed="rId1"/>
          <a:stretch/>
        </p:blipFill>
        <p:spPr>
          <a:xfrm>
            <a:off x="228600" y="2590920"/>
            <a:ext cx="2486160" cy="3019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schemat_budowy_DNA_b"/>
          <p:cNvPicPr/>
          <p:nvPr/>
        </p:nvPicPr>
        <p:blipFill>
          <a:blip r:embed="rId2"/>
          <a:stretch/>
        </p:blipFill>
        <p:spPr>
          <a:xfrm>
            <a:off x="3352680" y="2514600"/>
            <a:ext cx="54770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533160" y="8380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доничне везе се успостављају између комплементарних база два наспрамна ланца молекула ДН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мплементарност је утв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н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ргафовим открићем (1951)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личина гуанина једнака је количини цитозина, а количина аденина једнака је количини тимин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односно количина пурина једнака је количини пиримидина (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Чаргафово правил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676160"/>
            <a:ext cx="327672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4617b"/>
                </a:solidFill>
                <a:latin typeface="Arial"/>
              </a:rPr>
              <a:t>Водоничне везе</a:t>
            </a:r>
            <a:br>
              <a:rPr sz="3100"/>
            </a:br>
            <a:br>
              <a:rPr sz="3100"/>
            </a:br>
            <a:br>
              <a:rPr sz="3100"/>
            </a:br>
            <a:r>
              <a:rPr b="1" lang="sr-CS" sz="31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en-US" sz="3100" spc="-1" strike="noStrike">
                <a:solidFill>
                  <a:srgbClr val="0000ff"/>
                </a:solidFill>
                <a:latin typeface="Arial"/>
                <a:ea typeface="Times New Roman"/>
              </a:rPr>
              <a:t>=</a:t>
            </a:r>
            <a:r>
              <a:rPr b="1" lang="sr-CS" sz="3100" spc="-1" strike="noStrike">
                <a:solidFill>
                  <a:srgbClr val="0000ff"/>
                </a:solidFill>
                <a:latin typeface="Arial"/>
                <a:ea typeface="Times New Roman"/>
              </a:rPr>
              <a:t>Т</a:t>
            </a:r>
            <a:br>
              <a:rPr sz="3100"/>
            </a:br>
            <a:br>
              <a:rPr sz="3100"/>
            </a:br>
            <a:r>
              <a:rPr b="1" lang="sr-Latn-CS" sz="31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sr-CS" sz="3100" spc="-1" strike="noStrike">
                <a:solidFill>
                  <a:srgbClr val="0000ff"/>
                </a:solidFill>
                <a:latin typeface="Arial"/>
                <a:ea typeface="Times New Roman"/>
              </a:rPr>
              <a:t>≡С</a:t>
            </a:r>
            <a:br>
              <a:rPr sz="3100"/>
            </a:br>
            <a:endParaRPr b="0" lang="en-US" sz="31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Picture 3" descr="DNA2"/>
          <p:cNvPicPr/>
          <p:nvPr/>
        </p:nvPicPr>
        <p:blipFill>
          <a:blip r:embed="rId1"/>
          <a:stretch/>
        </p:blipFill>
        <p:spPr>
          <a:xfrm>
            <a:off x="4038480" y="1676520"/>
            <a:ext cx="411480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0880" y="1920600"/>
            <a:ext cx="411480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ен је секвен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молекул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Н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ја носи информацију за синтезу функционалног продук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ге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виси од распореда и редоследа 4 типа нуклеотида (А тип, G тип, C тип, Т тип нуклеотид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990720" y="685800"/>
            <a:ext cx="70866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ГЕН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62" name="Object 6"/>
          <p:cNvGraphicFramePr/>
          <p:nvPr/>
        </p:nvGraphicFramePr>
        <p:xfrm>
          <a:off x="5638680" y="228600"/>
          <a:ext cx="3276720" cy="28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28600"/>
                    <a:ext cx="327672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6"/>
          <p:cNvGraphicFramePr/>
          <p:nvPr/>
        </p:nvGraphicFramePr>
        <p:xfrm>
          <a:off x="6477120" y="3505320"/>
          <a:ext cx="2170080" cy="31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505320"/>
                    <a:ext cx="2170080" cy="31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олиморфност завојнице Д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0520" y="121896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НК завојница може да се нађе у више различитих фор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већи део ДНК је и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стаје дехидратацијом B завојниц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изузетно је рет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 шећерно-фосфатну кичму у цик-цак облик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Picture 3" descr="A- B- and Z-DNA"/>
          <p:cNvPicPr/>
          <p:nvPr/>
        </p:nvPicPr>
        <p:blipFill>
          <a:blip r:embed="rId1"/>
          <a:stretch/>
        </p:blipFill>
        <p:spPr>
          <a:xfrm>
            <a:off x="2133720" y="4095720"/>
            <a:ext cx="52578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Korisnik</cp:lastModifiedBy>
  <dcterms:modified xsi:type="dcterms:W3CDTF">2018-09-04T09:53:04Z</dcterms:modified>
  <cp:revision>100</cp:revision>
  <dc:subject/>
  <dc:title>2-Humani genom</dc:title>
</cp:coreProperties>
</file>