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3AE-5DEF-47F1-A78C-67764A13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AD1-03B7-4379-8B8B-944CCCD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184-CCFA-42AB-988F-36129F0A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077-5698-4254-8CB1-B349FC6E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C340-A38A-4A29-ADD1-F43F0AA8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0634-D851-416F-935C-C8862D31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B0F5-A3F5-4448-9A9A-EA15D9B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C9F-1CD6-4C9E-80DA-01546E5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94A4-C749-4C88-A6C3-76E4B2C6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59A3-D175-455D-AA73-B5B0BD22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AD22-A18B-4D4F-B9A5-C0D459D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D83-DE70-428C-BC3E-23CC0300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B5B5-B041-4CFB-887E-FB3DFB1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F1D2-37F6-4433-9336-921BD42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B387-CDC6-4410-AC02-1761BB58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1DFA-27AF-4FCF-BC42-85216D03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5C9F-79FA-4CCD-8278-6BA91CE9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590A-65C1-4EF6-BB9D-26EE47C1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510D-F688-44F3-8221-051D004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3CEF-65D1-49D0-AF62-36BDC1C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1AA0-453D-4209-AAEA-9B0793A4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D539-0819-441C-8061-7660A8AA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C8B-13D2-430E-9C48-E5823A9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897D-1C14-4D94-9B97-E6D0A4B5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336C-7FBA-4ED9-A265-949F94B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EF2A-D2A3-430F-8BE4-DA11455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EC2E-B3A3-4088-BA6E-8C70135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8CA1-733C-4EED-A8C0-2DA9D021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90573-9A9A-4942-82AA-4FD1D281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D840-D814-421A-83C9-637CAD66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ACC4-67AC-43ED-86A1-03C52311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48B30-DD2F-44C4-9EC0-AC36C472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37E2-136F-4A1F-90A6-75209BF1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F4A-DC87-4B20-A70B-3E4995C3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F15B-3236-4DFB-AA49-BADFC35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4DFB-5E57-49FE-B8E4-2667382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5C3B-31EA-49F9-A4E3-0A78D9C0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0B67-C7F9-4F05-8695-6E36F043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44FF3-CD32-430D-A975-9B815CC4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A9A0-5F32-428D-8E5C-262DA46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C71F-B3B3-4E46-9D79-6589179C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691E-D34F-4721-A570-7D0AEED2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DC63-5755-4A4F-AC06-A4B3A0B0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5CA-2BBE-4F54-844C-47AB6D1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DAA-0660-4252-BBAD-BA9549EB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209-3BC6-47D8-A537-D1D6843D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72C-69C6-4183-BBB1-ABE5235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A16-4736-4F99-BC51-3E2A41B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7B2-A6CD-47BB-A3A7-BCED8E7643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E3F-F39C-4444-A174-EE2900CFB82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1244-0F15-42F7-B475-4168F3B29CE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13AB-BE0C-4E9A-904E-9EB8B4305DE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f/fb/Meselson-stahl_experiment_diagram_en.sv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j1uMvk5s3MAhVDcBoKHcy6DAAQjRwIBw&amp;url=https%3A%2F%2Fwww.mun.ca%2Fbiology%2Fscarr%2FiGen3_03-01.html&amp;psig=AFQjCNFGr1XLxnRIcVULs-3FrgoxuW5_uw&amp;ust=146291112082240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sr-CS" sz="56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r-CS" sz="4800" spc="-1" strike="noStrike">
                <a:solidFill>
                  <a:srgbClr val="ffff00"/>
                </a:solidFill>
                <a:latin typeface="Arial"/>
                <a:ea typeface="Arial"/>
              </a:rPr>
              <a:t>РЕПЛИКАЦИЈА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cc"/>
                </a:solidFill>
                <a:latin typeface="Calibri"/>
              </a:rPr>
              <a:t>Репликација је савршено контролисана и регулисан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ешке у спаривању најчешће настају због таутомерних п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ме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зотних база (прелази Н атом са једне на другу позицију унутар молекула баз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енолни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T-G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G       имино облик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C-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репли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256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Транзи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ња се пурин пурином и пиримидин пиримидином </a:t>
            </a:r>
            <a:br>
              <a:rPr sz="2400"/>
            </a:br>
            <a:r>
              <a:rPr b="1" i="1" lang="fr-FR" sz="2400" spc="-1" strike="noStrike">
                <a:solidFill>
                  <a:srgbClr val="6600ff"/>
                </a:solidFill>
                <a:latin typeface="Arial"/>
              </a:rPr>
              <a:t>Трансверзије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мења се пурин пиримидин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обратно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zoology.ubc.ca/genetics/transisverstable.gif"/>
          <p:cNvPicPr/>
          <p:nvPr/>
        </p:nvPicPr>
        <p:blipFill>
          <a:blip r:embed="rId1"/>
          <a:stretch/>
        </p:blipFill>
        <p:spPr>
          <a:xfrm>
            <a:off x="30240" y="32767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www.mun.ca/biology/scarr/iGen3_07-03_Figure-Lab.jpg"/>
          <p:cNvPicPr/>
          <p:nvPr/>
        </p:nvPicPr>
        <p:blipFill>
          <a:blip r:embed="rId2"/>
          <a:stretch/>
        </p:blipFill>
        <p:spPr>
          <a:xfrm>
            <a:off x="3009960" y="2992320"/>
            <a:ext cx="6095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стопа мут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по гену износ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 стопа мутације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по нуклеотиду износ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0</a:t>
            </a:r>
            <a:r>
              <a:rPr b="0" lang="sr-RS" sz="28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0000cc"/>
                </a:solidFill>
                <a:latin typeface="Arial"/>
                <a:ea typeface="Arial"/>
              </a:rPr>
              <a:t>K</a:t>
            </a:r>
            <a:r>
              <a:rPr b="0" lang="sr-CS" sz="5000" spc="-1" strike="noStrike">
                <a:solidFill>
                  <a:srgbClr val="0000cc"/>
                </a:solidFill>
                <a:latin typeface="Arial"/>
                <a:ea typeface="Arial"/>
              </a:rPr>
              <a:t>од, кодон, антикод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c00000"/>
                </a:solidFill>
                <a:latin typeface="Arial"/>
                <a:ea typeface="Arial"/>
              </a:rPr>
              <a:t>Ko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Кодон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Антикод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риплет нуклеотида у т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cc"/>
                </a:solidFill>
                <a:latin typeface="Arial"/>
                <a:ea typeface="Arial"/>
              </a:rPr>
              <a:t>Основне карактеристике кода/кодо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Универзал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ступа само мт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кодир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ећ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G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су означени као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бесмислени (нонсенс), стоп код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ницијални  </a:t>
            </a:r>
            <a:r>
              <a:rPr b="1" i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старт кодо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ион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генеративност кода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/код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једну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ира већи број кодона, осим триптофана и метионина које од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е само по један код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Одсуство преклапањ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и елементи једног кодона нису у исто време елементи другог код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13translation"/>
          <p:cNvPicPr/>
          <p:nvPr/>
        </p:nvPicPr>
        <p:blipFill>
          <a:blip r:embed="rId1"/>
          <a:stretch/>
        </p:blipFill>
        <p:spPr>
          <a:xfrm>
            <a:off x="990720" y="137160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</a:t>
            </a:r>
            <a:r>
              <a:rPr b="0" lang="sr-CS" sz="5000" spc="-1" strike="noStrike">
                <a:solidFill>
                  <a:srgbClr val="04617b"/>
                </a:solidFill>
                <a:latin typeface="Calibri"/>
              </a:rPr>
              <a:t>еплик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9640" y="2349000"/>
            <a:ext cx="8229600" cy="207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http://highered.mcgraw-hill.com/sites/0072437316/student_view0/chapter14/animations.html#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Репликација (удвајање) ДНК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је једини познати молекул који има способност ауторепродукц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ава се у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фази интерф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да су хромозоми у деспирализованом стањ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лсон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л (1958.)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ојим експериментима показ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се репликација одвија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полуконзервативан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0000"/>
                </a:solidFill>
                <a:latin typeface="Arial"/>
              </a:rPr>
              <a:t>семиконзервативан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ч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Arial"/>
              </a:rPr>
              <a:t>Експеримент Мезелсона и Шта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File:Meselson-stahl experiment diagram e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98800"/>
            <a:ext cx="487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Репликација се дешава на семиконзервативан начи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5" descr="https://www.mun.ca/biology/scarr/iGen3_03-01_Figure-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Ензими репли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371240"/>
            <a:ext cx="7239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лик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оизомер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B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отеи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1. Енд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зонуклеаз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имер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ДНК-полимераз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РНК полимераза 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иг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-360" y="9903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пликација код еукариота се дешава на више места дуж хромозома у  исто време,  у правцу 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r>
              <a:rPr b="0" lang="sr-RS" sz="2800" spc="-1" strike="noStrike">
                <a:solidFill>
                  <a:srgbClr val="000000"/>
                </a:solidFill>
                <a:latin typeface="Constantia"/>
              </a:rPr>
              <a:t>-3</a:t>
            </a:r>
            <a:r>
              <a:rPr b="0" lang="sr-RS" sz="2800" spc="-1" strike="noStrike" baseline="30000">
                <a:solidFill>
                  <a:srgbClr val="000000"/>
                </a:solidFill>
                <a:latin typeface="Constantia"/>
              </a:rPr>
              <a:t>'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почиње на самом крају лан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4" descr="ReplicationBubbles"/>
          <p:cNvPicPr/>
          <p:nvPr/>
        </p:nvPicPr>
        <p:blipFill>
          <a:blip r:embed="rId1"/>
          <a:stretch/>
        </p:blipFill>
        <p:spPr>
          <a:xfrm>
            <a:off x="5562720" y="1371600"/>
            <a:ext cx="27223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у репликације претходи иницијација репли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иницијацији настаје пререпликациони комплекс (комплекс протеина који настаје на месту почетка репликациј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rigi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replication3"/>
          <p:cNvPicPr/>
          <p:nvPr/>
        </p:nvPicPr>
        <p:blipFill>
          <a:blip r:embed="rId1"/>
          <a:stretch/>
        </p:blipFill>
        <p:spPr>
          <a:xfrm>
            <a:off x="4876920" y="1447920"/>
            <a:ext cx="39765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14479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пликација 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е у исто време на оба ланца у правцу 5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пошто су они антипаралелн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једном тече од краја ка средишту репликаци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љушке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другом од средишта ка крају репликационе виљуш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3" descr="DNArep1"/>
          <p:cNvPicPr/>
          <p:nvPr/>
        </p:nvPicPr>
        <p:blipFill>
          <a:blip r:embed="rId1"/>
          <a:stretch/>
        </p:blipFill>
        <p:spPr>
          <a:xfrm>
            <a:off x="4400640" y="1295280"/>
            <a:ext cx="4743360" cy="45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воде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ланцу - Примаз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остајућ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ланц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а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K poly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газ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а повезуј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Оказакијев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ф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агмен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Enzymes%20at%20Replication%20Fork"/>
          <p:cNvPicPr/>
          <p:nvPr/>
        </p:nvPicPr>
        <p:blipFill>
          <a:blip r:embed="rId1"/>
          <a:stretch/>
        </p:blipFill>
        <p:spPr>
          <a:xfrm>
            <a:off x="2819520" y="1860480"/>
            <a:ext cx="6172200" cy="47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Danijela Todorovic</cp:lastModifiedBy>
  <dcterms:modified xsi:type="dcterms:W3CDTF">2018-09-03T11:48:56Z</dcterms:modified>
  <cp:revision>100</cp:revision>
  <dc:subject/>
  <dc:title>2-Humani genom</dc:title>
</cp:coreProperties>
</file>